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6EF6E2-FF9D-4433-B158-2CF41338D1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C5FAAD-A6A5-4EC6-9610-6E35A57F24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23527C-92B0-4FA3-80FE-FFAB737878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50758-43D8-4355-8468-6DF64406FD6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A498E5-C265-4CC7-8C9D-38E92696632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3384B4-27FF-4C61-9E1E-96B46DA43B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4DE5BA-18C8-4DE8-A60C-7C8BC0890D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B6AD3C-D2A6-48F0-B730-66C53FD93A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70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DAD808-9660-4A68-AE2A-05771679B9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B19FEB-1CDE-4F14-ADDB-07EBF88166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7A209C-EEBB-4B23-8E9F-FAA75528F1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A486AF-FB4B-465F-88BC-02BD882266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462440" y="624492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DBF5C-0E2F-476B-9AFF-2B5DC4540FF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23842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Language Diversity in Switzerl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96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Fritzi Wittman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IB German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Quarter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981160" y="2381400"/>
            <a:ext cx="3181680" cy="209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line 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www.swissinfo.ch/eng/Home/Archive/Swiss_urged_not_to_forget_language_diversity.html?cid=67023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www.ch.ch/private/00987/01052/01054/02165/index.html?lang=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www.usefoundation.org/view/6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images.travelpod.com/users/obrian0620/1.1289495297.switzerland-s-linguistic-diversity.gi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//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.gps-club.de/media/swiss_flag_big.gi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Lucida Grande"/>
                <a:ea typeface="Lucida Grande"/>
              </a:rPr>
              <a:t>Facts </a:t>
            </a:r>
            <a:br>
              <a:rPr sz="4000"/>
            </a:b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Grande"/>
                <a:ea typeface="Lucida Grande"/>
              </a:rPr>
              <a:t>Article: Swiss urged not to forget language diversity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Switzerland has four nationally recognized languages: French, German, Italian, and Romans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Due to the global popularity of English Switzerland’s multilingual culture is under attack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Due to immigration and migration of language itself, Switzerland is, in many ways, more multilingual than befor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When polled, 80% of students attending a high school in Geneva agreed that it is important to be multilingual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While all German speaking students in schools are taught French as a second language it does not mean that the students are fluent throwing the legitimacy of being “multilingual” in to questi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143000" y="228600"/>
            <a:ext cx="6553080" cy="51228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609480" y="5486400"/>
            <a:ext cx="75567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Romansh, a Latin based language, accounts for approximately 0.5% of the populations language of choic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Facts</a:t>
            </a:r>
            <a:br>
              <a:rPr sz="4000"/>
            </a:br>
            <a:r>
              <a:rPr b="0" lang="en-US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Article: Switzerland's Linguistic Landscap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Other minority languages spoken in Switzerland Serbian, Croatian, Spanish, and English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While, for the most part, Switzerland’s linguistic boarders are clearly defined there are definite areas of overlap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July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Lucida Grande"/>
                <a:ea typeface="Lucida Grande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, 2011 the Ordinance on National Languages and Understanding between the Linguistic Communities  came to b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Each language is urged to promote multilingualism in order to preserve their own cultur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The most popularly spoken language in Switzerland is German (63.7%) followed by Italian (9%) and French (6.5%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609480" y="1066680"/>
            <a:ext cx="7696440" cy="34228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609480" y="4724280"/>
            <a:ext cx="786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This sign exemplifies the multilingual aspects of the Swiss cultur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Facts</a:t>
            </a:r>
            <a:br>
              <a:rPr sz="4000"/>
            </a:br>
            <a:r>
              <a:rPr b="0" lang="en-US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Article: A Study on Linguistic Divers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The Swiss National Science Foundation recently began a study on linguistic diversity and language competenc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Language is pre-assigned to each territorial division of Switzerlan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Approximately 25% of the Swiss population are foreigner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Schools focus primarily on teaching German and French to their pupil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The SNSF is likely to use their collected data to produce new guidelines for schools to follow in the upcoming year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5105160" y="838080"/>
            <a:ext cx="3276360" cy="45259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  <a:ea typeface="ヒラギノ角ゴ ProN W3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This book illustrates how “Swiss” is truly a compilation of distinct languages yet is has managed to make them its own 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4124520" cy="634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QUIZ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649440" indent="-609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Gran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What percent of Swiss speak Romansh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9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  <a:ea typeface="ヒラギノ角ゴ ProN W3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a) 1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9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  <a:ea typeface="ヒラギノ角ゴ ProN W3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b) 2 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9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  <a:ea typeface="ヒラギノ角ゴ ProN W3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c) 0.5%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9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  <a:ea typeface="ヒラギノ角ゴ ProN W3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d) 7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9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9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9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2. What percent of Students in Geneva believe that being multilingual is very importan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9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  <a:ea typeface="ヒラギノ角ゴ ProN W3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a) 75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9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  <a:ea typeface="ヒラギノ角ゴ ProN W3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b) 2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9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  <a:ea typeface="ヒラギノ角ゴ ProN W3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c) 15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9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  <a:ea typeface="ヒラギノ角ゴ ProN W3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d) 8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Answers: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649440" indent="-609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Gran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C; It is estimated that 0.5% of the population speaks on of the several dialects of Romansh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Grande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D; When polled, 80% of students acknowledged the importance of multilingualism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CSadmin</dc:creator>
  <dc:description/>
  <dc:language>en-US</dc:language>
  <cp:lastModifiedBy/>
  <cp:revision>0</cp:revision>
  <dc:subject/>
  <dc:title>Language Diversity in Switzerland</dc:title>
</cp:coreProperties>
</file>